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3B0-A6E2-4A2C-9E2D-7A22BB53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DE6D-8CEF-4BB6-B87F-913B772E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43D-464D-4FD1-8F6A-3B6777F5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CAF-AAF0-4308-8DAF-35A10D3B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2A7-ADA9-4A73-836B-A7347D4F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7D4-E9AE-4308-8CB5-43320FBE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559-4A7F-47F0-806F-2699AA1C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D26-E3BE-4534-8018-009FEC32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9310-E603-4B75-8A50-5DD07C57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1DF-03EE-4A23-AADA-44C55745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3E6-6AC2-418B-92CF-E79CF2D2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560-C6A9-41FC-AF7B-06786DD1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35477-2DCE-422D-B241-6313DCD447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6083F-20F2-4402-BBE2-4FC4F5CBE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307800"/>
            <a:ext cx="8763120" cy="6170760"/>
          </a:xfrm>
          <a:prstGeom prst="rect">
            <a:avLst/>
          </a:prstGeom>
          <a:ln w="0">
            <a:noFill/>
          </a:ln>
        </p:spPr>
      </p:pic>
      <p:sp>
        <p:nvSpPr>
          <p:cNvPr id="42" name="Action Button: Forward or Next 6">
            <a:hlinkClick r:id="" action="ppaction://hlinkshowjump?jump=nextslide"/>
          </p:cNvPr>
          <p:cNvSpPr/>
          <p:nvPr/>
        </p:nvSpPr>
        <p:spPr>
          <a:xfrm>
            <a:off x="4038480" y="6272280"/>
            <a:ext cx="1043280" cy="585720"/>
          </a:xfrm>
          <a:custGeom>
            <a:avLst/>
            <a:gdLst>
              <a:gd name="textAreaLeft" fmla="*/ 37800 w 1043280"/>
              <a:gd name="textAreaRight" fmla="*/ 1005480 w 104328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63" h="21600">
                <a:moveTo>
                  <a:pt x="0" y="0"/>
                </a:moveTo>
                <a:lnTo>
                  <a:pt x="38463" y="0"/>
                </a:lnTo>
                <a:lnTo>
                  <a:pt x="38463" y="21600"/>
                </a:lnTo>
                <a:lnTo>
                  <a:pt x="0" y="21600"/>
                </a:lnTo>
                <a:close/>
              </a:path>
              <a:path fill="lightenLess" w="38463" h="21600">
                <a:moveTo>
                  <a:pt x="0" y="0"/>
                </a:moveTo>
                <a:lnTo>
                  <a:pt x="38463" y="0"/>
                </a:lnTo>
                <a:lnTo>
                  <a:pt x="37063" y="1400"/>
                </a:lnTo>
                <a:lnTo>
                  <a:pt x="1400" y="1400"/>
                </a:lnTo>
                <a:close/>
              </a:path>
              <a:path fill="darken" w="38463" h="21600">
                <a:moveTo>
                  <a:pt x="38463" y="0"/>
                </a:moveTo>
                <a:lnTo>
                  <a:pt x="38463" y="21600"/>
                </a:lnTo>
                <a:lnTo>
                  <a:pt x="37063" y="20200"/>
                </a:lnTo>
                <a:lnTo>
                  <a:pt x="37063" y="1400"/>
                </a:lnTo>
                <a:close/>
              </a:path>
              <a:path fill="darkenLess" w="38463" h="21600">
                <a:moveTo>
                  <a:pt x="38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63" y="20200"/>
                </a:lnTo>
                <a:close/>
              </a:path>
              <a:path fill="lighten" w="38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63" h="21600">
                <a:moveTo>
                  <a:pt x="12225" y="3794"/>
                </a:moveTo>
                <a:lnTo>
                  <a:pt x="26238" y="10800"/>
                </a:lnTo>
                <a:lnTo>
                  <a:pt x="12225" y="17806"/>
                </a:lnTo>
                <a:close/>
              </a:path>
            </a:pathLst>
          </a:custGeom>
          <a:solidFill>
            <a:srgbClr val="a9d2a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73" name="Action Button: Forward or Next 5">
            <a:hlinkClick r:id="" action="ppaction://hlinkshowjump?jump=nextslide"/>
          </p:cNvPr>
          <p:cNvSpPr/>
          <p:nvPr/>
        </p:nvSpPr>
        <p:spPr>
          <a:xfrm>
            <a:off x="838080" y="457200"/>
            <a:ext cx="762120" cy="12193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1219320"/>
              <a:gd name="textAreaBottom" fmla="*/ 1170000 h 121932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0269"/>
                </a:moveTo>
                <a:lnTo>
                  <a:pt x="17806" y="17276"/>
                </a:lnTo>
                <a:lnTo>
                  <a:pt x="3794" y="24282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215520" y="3962520"/>
            <a:ext cx="307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vas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57320" y="-4572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77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80" name="Action Button: Forward or Next 5">
            <a:hlinkClick r:id="" action="ppaction://hlinkshowjump?jump=nextslide"/>
          </p:cNvPr>
          <p:cNvSpPr/>
          <p:nvPr/>
        </p:nvSpPr>
        <p:spPr>
          <a:xfrm>
            <a:off x="6553080" y="18288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90" h="21600">
                <a:moveTo>
                  <a:pt x="20588" y="3794"/>
                </a:moveTo>
                <a:lnTo>
                  <a:pt x="34601" y="10800"/>
                </a:lnTo>
                <a:lnTo>
                  <a:pt x="20588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1600200" y="3962520"/>
            <a:ext cx="598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plato hon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57320" y="-3618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84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87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6094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7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7" y="20200"/>
                </a:lnTo>
                <a:lnTo>
                  <a:pt x="54107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7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07" h="21600">
                <a:moveTo>
                  <a:pt x="20747" y="3794"/>
                </a:moveTo>
                <a:lnTo>
                  <a:pt x="34760" y="10800"/>
                </a:lnTo>
                <a:lnTo>
                  <a:pt x="20747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685600" y="3962520"/>
            <a:ext cx="373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platill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7320" y="-4572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91" name="Action Button: Forward or Next 5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94" name="Action Button: Forward or Next 5">
            <a:hlinkClick r:id="" action="ppaction://hlinkshowjump?jump=nextslide"/>
          </p:cNvPr>
          <p:cNvSpPr/>
          <p:nvPr/>
        </p:nvSpPr>
        <p:spPr>
          <a:xfrm>
            <a:off x="4267080" y="60948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3794"/>
                </a:moveTo>
                <a:lnTo>
                  <a:pt x="22125" y="10800"/>
                </a:lnTo>
                <a:lnTo>
                  <a:pt x="8112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138120" y="3962520"/>
            <a:ext cx="287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a taz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7320" y="-4572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98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101" name="Action Button: Forward or Next 5">
            <a:hlinkClick r:id="" action="ppaction://hlinkshowjump?jump=nextslide"/>
          </p:cNvPr>
          <p:cNvSpPr/>
          <p:nvPr/>
        </p:nvSpPr>
        <p:spPr>
          <a:xfrm>
            <a:off x="1752480" y="45720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83" h="21600">
                <a:moveTo>
                  <a:pt x="16135" y="3794"/>
                </a:moveTo>
                <a:lnTo>
                  <a:pt x="30148" y="10800"/>
                </a:lnTo>
                <a:lnTo>
                  <a:pt x="16135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2081520" y="3962520"/>
            <a:ext cx="475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a servillet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15800" y="173160"/>
            <a:ext cx="8159760" cy="630396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4" descr=""/>
          <p:cNvPicPr/>
          <p:nvPr/>
        </p:nvPicPr>
        <p:blipFill>
          <a:blip r:embed="rId2"/>
          <a:stretch/>
        </p:blipFill>
        <p:spPr>
          <a:xfrm>
            <a:off x="139680" y="-133200"/>
            <a:ext cx="9193320" cy="2151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4263480" y="51055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ction Button: Custom 6">
            <a:hlinkClick r:id="" action="ppaction://hlinkshowjump?jump=endshow"/>
          </p:cNvPr>
          <p:cNvSpPr/>
          <p:nvPr/>
        </p:nvSpPr>
        <p:spPr>
          <a:xfrm>
            <a:off x="4267080" y="5105520"/>
            <a:ext cx="1043280" cy="520560"/>
          </a:xfrm>
          <a:custGeom>
            <a:avLst/>
            <a:gdLst>
              <a:gd name="textAreaLeft" fmla="*/ 33480 w 1043280"/>
              <a:gd name="textAreaRight" fmla="*/ 1009800 w 10432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43275" h="21600">
                <a:moveTo>
                  <a:pt x="0" y="0"/>
                </a:moveTo>
                <a:lnTo>
                  <a:pt x="43275" y="0"/>
                </a:lnTo>
                <a:lnTo>
                  <a:pt x="43275" y="21600"/>
                </a:lnTo>
                <a:lnTo>
                  <a:pt x="0" y="21600"/>
                </a:lnTo>
                <a:close/>
              </a:path>
              <a:path fill="lightenLess" w="43275" h="21600">
                <a:moveTo>
                  <a:pt x="0" y="0"/>
                </a:moveTo>
                <a:lnTo>
                  <a:pt x="43275" y="0"/>
                </a:lnTo>
                <a:lnTo>
                  <a:pt x="41875" y="1400"/>
                </a:lnTo>
                <a:lnTo>
                  <a:pt x="1400" y="1400"/>
                </a:lnTo>
                <a:close/>
              </a:path>
              <a:path fill="darken" w="43275" h="21600">
                <a:moveTo>
                  <a:pt x="43275" y="0"/>
                </a:moveTo>
                <a:lnTo>
                  <a:pt x="43275" y="21600"/>
                </a:lnTo>
                <a:lnTo>
                  <a:pt x="41875" y="20200"/>
                </a:lnTo>
                <a:lnTo>
                  <a:pt x="41875" y="1400"/>
                </a:lnTo>
                <a:close/>
              </a:path>
              <a:path fill="darkenLess" w="43275" h="21600">
                <a:moveTo>
                  <a:pt x="43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5" y="20200"/>
                </a:lnTo>
                <a:close/>
              </a:path>
              <a:path fill="lighten" w="43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ffffff">
                <a:alpha val="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3215880" y="3962520"/>
            <a:ext cx="313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pla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ction Button: Forward or Next 8">
            <a:hlinkClick r:id="" action="ppaction://hlinkshowjump?jump=nextslide"/>
          </p:cNvPr>
          <p:cNvSpPr/>
          <p:nvPr/>
        </p:nvSpPr>
        <p:spPr>
          <a:xfrm>
            <a:off x="1523880" y="1752480"/>
            <a:ext cx="4191120" cy="1043280"/>
          </a:xfrm>
          <a:custGeom>
            <a:avLst/>
            <a:gdLst>
              <a:gd name="textAreaLeft" fmla="*/ 67320 w 4191120"/>
              <a:gd name="textAreaRight" fmla="*/ 4123800 w 41911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86750" h="21600">
                <a:moveTo>
                  <a:pt x="0" y="0"/>
                </a:moveTo>
                <a:lnTo>
                  <a:pt x="86750" y="0"/>
                </a:lnTo>
                <a:lnTo>
                  <a:pt x="86750" y="21600"/>
                </a:lnTo>
                <a:lnTo>
                  <a:pt x="0" y="21600"/>
                </a:lnTo>
                <a:close/>
              </a:path>
              <a:path fill="lightenLess" w="86750" h="21600">
                <a:moveTo>
                  <a:pt x="0" y="0"/>
                </a:moveTo>
                <a:lnTo>
                  <a:pt x="86750" y="0"/>
                </a:lnTo>
                <a:lnTo>
                  <a:pt x="85350" y="1400"/>
                </a:lnTo>
                <a:lnTo>
                  <a:pt x="1400" y="1400"/>
                </a:lnTo>
                <a:close/>
              </a:path>
              <a:path fill="darken" w="86750" h="21600">
                <a:moveTo>
                  <a:pt x="86750" y="0"/>
                </a:moveTo>
                <a:lnTo>
                  <a:pt x="86750" y="21600"/>
                </a:lnTo>
                <a:lnTo>
                  <a:pt x="85350" y="20200"/>
                </a:lnTo>
                <a:lnTo>
                  <a:pt x="85350" y="1400"/>
                </a:lnTo>
                <a:close/>
              </a:path>
              <a:path fill="darkenLess" w="86750" h="21600">
                <a:moveTo>
                  <a:pt x="86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350" y="20200"/>
                </a:lnTo>
                <a:close/>
              </a:path>
              <a:path fill="lighten" w="86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750" h="21600">
                <a:moveTo>
                  <a:pt x="36369" y="3794"/>
                </a:moveTo>
                <a:lnTo>
                  <a:pt x="50382" y="10800"/>
                </a:lnTo>
                <a:lnTo>
                  <a:pt x="36369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33200" y="0"/>
            <a:ext cx="8874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ction Button: Forward or Next 5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52" name="Action Button: Forward or Next 5">
            <a:hlinkClick r:id="" action="ppaction://hlinkshowjump?jump=nextslide"/>
          </p:cNvPr>
          <p:cNvSpPr/>
          <p:nvPr/>
        </p:nvSpPr>
        <p:spPr>
          <a:xfrm>
            <a:off x="304920" y="457200"/>
            <a:ext cx="380880" cy="25909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2590920"/>
              <a:gd name="textAreaBottom" fmla="*/ 2566440 h 2590920"/>
            </a:gdLst>
            <a:ahLst/>
            <a:rect l="textAreaLeft" t="textAreaTop" r="textAreaRight" b="textAreaBottom"/>
            <a:pathLst>
              <a:path w="21600" h="146815">
                <a:moveTo>
                  <a:pt x="0" y="0"/>
                </a:moveTo>
                <a:lnTo>
                  <a:pt x="21600" y="0"/>
                </a:lnTo>
                <a:lnTo>
                  <a:pt x="21600" y="146815"/>
                </a:lnTo>
                <a:lnTo>
                  <a:pt x="0" y="146815"/>
                </a:lnTo>
                <a:close/>
              </a:path>
              <a:path fill="lightenLess" w="21600" h="1468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46815">
                <a:moveTo>
                  <a:pt x="21600" y="0"/>
                </a:moveTo>
                <a:lnTo>
                  <a:pt x="21600" y="146815"/>
                </a:lnTo>
                <a:lnTo>
                  <a:pt x="20200" y="145415"/>
                </a:lnTo>
                <a:lnTo>
                  <a:pt x="20200" y="1400"/>
                </a:lnTo>
                <a:close/>
              </a:path>
              <a:path fill="darkenLess" w="21600" h="146815">
                <a:moveTo>
                  <a:pt x="21600" y="146815"/>
                </a:moveTo>
                <a:lnTo>
                  <a:pt x="0" y="146815"/>
                </a:lnTo>
                <a:lnTo>
                  <a:pt x="1400" y="145415"/>
                </a:lnTo>
                <a:lnTo>
                  <a:pt x="20200" y="145415"/>
                </a:lnTo>
                <a:close/>
              </a:path>
              <a:path fill="lighten" w="21600" h="146815">
                <a:moveTo>
                  <a:pt x="0" y="146815"/>
                </a:moveTo>
                <a:lnTo>
                  <a:pt x="0" y="0"/>
                </a:lnTo>
                <a:lnTo>
                  <a:pt x="1400" y="1400"/>
                </a:lnTo>
                <a:lnTo>
                  <a:pt x="1400" y="145415"/>
                </a:lnTo>
                <a:close/>
              </a:path>
              <a:path fill="darken" w="21600" h="146815">
                <a:moveTo>
                  <a:pt x="3794" y="66401"/>
                </a:moveTo>
                <a:lnTo>
                  <a:pt x="17806" y="73407"/>
                </a:lnTo>
                <a:lnTo>
                  <a:pt x="3794" y="80414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462760" y="3962520"/>
            <a:ext cx="425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tenedo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7320" y="-3618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56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6561000" y="63673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98280" y="558720"/>
            <a:ext cx="7902720" cy="2595600"/>
          </a:xfrm>
          <a:prstGeom prst="rect">
            <a:avLst/>
          </a:prstGeom>
          <a:ln w="0">
            <a:noFill/>
          </a:ln>
        </p:spPr>
      </p:pic>
      <p:sp>
        <p:nvSpPr>
          <p:cNvPr id="59" name="Action Button: Forward or Next 7">
            <a:hlinkClick r:id="" action="ppaction://hlinkshowjump?jump=nextslide"/>
          </p:cNvPr>
          <p:cNvSpPr/>
          <p:nvPr/>
        </p:nvSpPr>
        <p:spPr>
          <a:xfrm>
            <a:off x="8458200" y="380880"/>
            <a:ext cx="304920" cy="25146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2514600"/>
              <a:gd name="textAreaBottom" fmla="*/ 2495160 h 2514600"/>
            </a:gdLst>
            <a:ahLst/>
            <a:rect l="textAreaLeft" t="textAreaTop" r="textAreaRight" b="textAreaBottom"/>
            <a:pathLst>
              <a:path w="21600" h="177945">
                <a:moveTo>
                  <a:pt x="0" y="0"/>
                </a:moveTo>
                <a:lnTo>
                  <a:pt x="21600" y="0"/>
                </a:lnTo>
                <a:lnTo>
                  <a:pt x="21600" y="177945"/>
                </a:lnTo>
                <a:lnTo>
                  <a:pt x="0" y="177945"/>
                </a:lnTo>
                <a:close/>
              </a:path>
              <a:path fill="lightenLess" w="21600" h="1779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77945">
                <a:moveTo>
                  <a:pt x="21600" y="0"/>
                </a:moveTo>
                <a:lnTo>
                  <a:pt x="21600" y="177945"/>
                </a:lnTo>
                <a:lnTo>
                  <a:pt x="20200" y="176545"/>
                </a:lnTo>
                <a:lnTo>
                  <a:pt x="20200" y="1400"/>
                </a:lnTo>
                <a:close/>
              </a:path>
              <a:path fill="darkenLess" w="21600" h="177945">
                <a:moveTo>
                  <a:pt x="21600" y="177945"/>
                </a:moveTo>
                <a:lnTo>
                  <a:pt x="0" y="177945"/>
                </a:lnTo>
                <a:lnTo>
                  <a:pt x="1400" y="176545"/>
                </a:lnTo>
                <a:lnTo>
                  <a:pt x="20200" y="176545"/>
                </a:lnTo>
                <a:close/>
              </a:path>
              <a:path fill="lighten" w="21600" h="177945">
                <a:moveTo>
                  <a:pt x="0" y="177945"/>
                </a:moveTo>
                <a:lnTo>
                  <a:pt x="0" y="0"/>
                </a:lnTo>
                <a:lnTo>
                  <a:pt x="1400" y="1400"/>
                </a:lnTo>
                <a:lnTo>
                  <a:pt x="1400" y="176545"/>
                </a:lnTo>
                <a:close/>
              </a:path>
              <a:path fill="darken" w="21600" h="177945">
                <a:moveTo>
                  <a:pt x="3794" y="81966"/>
                </a:moveTo>
                <a:lnTo>
                  <a:pt x="17806" y="88973"/>
                </a:lnTo>
                <a:lnTo>
                  <a:pt x="3794" y="95979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2459160" y="3962520"/>
            <a:ext cx="419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cuchill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7320" y="-4572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63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66" name="Action Button: Forward or Next 5">
            <a:hlinkClick r:id="" action="ppaction://hlinkshowjump?jump=nextslide"/>
          </p:cNvPr>
          <p:cNvSpPr/>
          <p:nvPr/>
        </p:nvSpPr>
        <p:spPr>
          <a:xfrm>
            <a:off x="5791320" y="457200"/>
            <a:ext cx="609480" cy="23623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2362320"/>
              <a:gd name="textAreaBottom" fmla="*/ 2323080 h 2362320"/>
            </a:gdLst>
            <a:ahLst/>
            <a:rect l="textAreaLeft" t="textAreaTop" r="textAreaRight" b="textAreaBottom"/>
            <a:pathLst>
              <a:path w="21600" h="83684">
                <a:moveTo>
                  <a:pt x="0" y="0"/>
                </a:moveTo>
                <a:lnTo>
                  <a:pt x="21600" y="0"/>
                </a:lnTo>
                <a:lnTo>
                  <a:pt x="21600" y="83684"/>
                </a:lnTo>
                <a:lnTo>
                  <a:pt x="0" y="83684"/>
                </a:lnTo>
                <a:close/>
              </a:path>
              <a:path fill="lightenLess" w="21600" h="836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83684">
                <a:moveTo>
                  <a:pt x="21600" y="0"/>
                </a:moveTo>
                <a:lnTo>
                  <a:pt x="21600" y="83684"/>
                </a:lnTo>
                <a:lnTo>
                  <a:pt x="20200" y="82284"/>
                </a:lnTo>
                <a:lnTo>
                  <a:pt x="20200" y="1400"/>
                </a:lnTo>
                <a:close/>
              </a:path>
              <a:path fill="darkenLess" w="21600" h="83684">
                <a:moveTo>
                  <a:pt x="21600" y="83684"/>
                </a:moveTo>
                <a:lnTo>
                  <a:pt x="0" y="83684"/>
                </a:lnTo>
                <a:lnTo>
                  <a:pt x="1400" y="82284"/>
                </a:lnTo>
                <a:lnTo>
                  <a:pt x="20200" y="82284"/>
                </a:lnTo>
                <a:close/>
              </a:path>
              <a:path fill="lighten" w="21600" h="83684">
                <a:moveTo>
                  <a:pt x="0" y="83684"/>
                </a:moveTo>
                <a:lnTo>
                  <a:pt x="0" y="0"/>
                </a:lnTo>
                <a:lnTo>
                  <a:pt x="1400" y="1400"/>
                </a:lnTo>
                <a:lnTo>
                  <a:pt x="1400" y="82284"/>
                </a:lnTo>
                <a:close/>
              </a:path>
              <a:path fill="darken" w="21600" h="83684">
                <a:moveTo>
                  <a:pt x="3794" y="34836"/>
                </a:moveTo>
                <a:lnTo>
                  <a:pt x="17806" y="41842"/>
                </a:lnTo>
                <a:lnTo>
                  <a:pt x="3794" y="48849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2307240" y="3962520"/>
            <a:ext cx="440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a cuchar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57320" y="-4572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70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9:44:07Z</dcterms:created>
  <dc:creator>Michael Burke</dc:creator>
  <dc:description/>
  <dc:language>en-US</dc:language>
  <cp:lastModifiedBy>Karen Murano</cp:lastModifiedBy>
  <dcterms:modified xsi:type="dcterms:W3CDTF">2011-08-15T19:46:58Z</dcterms:modified>
  <cp:revision>15</cp:revision>
  <dc:subject/>
  <dc:title>Slide 1</dc:title>
</cp:coreProperties>
</file>